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18.jpeg" ContentType="image/jpeg"/>
  <Override PartName="/ppt/media/image15.png" ContentType="image/png"/>
  <Override PartName="/ppt/media/image10.jpeg" ContentType="image/jpeg"/>
  <Override PartName="/ppt/media/image5.png" ContentType="image/png"/>
  <Override PartName="/ppt/media/image20.jpeg" ContentType="image/jpeg"/>
  <Override PartName="/ppt/media/image12.png" ContentType="image/png"/>
  <Override PartName="/ppt/media/image7.wmf" ContentType="image/x-wmf"/>
  <Override PartName="/ppt/media/image9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1.wmf" ContentType="image/x-wmf"/>
  <Override PartName="/ppt/media/image33.wmf" ContentType="image/x-wmf"/>
  <Override PartName="/ppt/media/image13.png" ContentType="image/png"/>
  <Override PartName="/ppt/media/image34.wmf" ContentType="image/x-wmf"/>
  <Override PartName="/ppt/media/image37.png" ContentType="image/png"/>
  <Override PartName="/ppt/media/image39.wmf" ContentType="image/x-wmf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4.wmf" ContentType="image/x-wmf"/>
  <Override PartName="/ppt/media/image32.wmf" ContentType="image/x-wmf"/>
  <Override PartName="/ppt/media/image29.png" ContentType="image/png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24EB7-0BF9-4F16-9730-27C8AC5E83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0E7E4-D6F7-4D69-8317-E4C1F98F02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BD844-B532-46E4-B121-21AE0AA3A6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144D1-95C8-400E-8CD2-FC1FBBDB27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C6E6C-2D66-4D25-8CCB-0B6EC3B49F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0E3C5-D7F7-4B52-9338-8B4E4E2009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9BE29-8C46-4EA4-B2EE-A2A80C8430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9888D-3429-46F7-9DE1-EB47B930F0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F95E4-C645-4721-8D89-6E2591EB6A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DB794-B95B-4F70-826B-D3145F917A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DAB5B-A645-43FD-B7BF-D4228E64C3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C2A2B-10DA-4C5D-8D92-D61F950AD4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A3E53-611D-42E8-89EC-3A61994A6F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47F97-3978-481A-936B-26669F8A74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A65DB-EF89-4757-840D-639F20C48E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00367-4F65-4698-B019-A33CB00EB3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FF367-9936-4CF5-8FDA-1BA9D8D9BB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3BE9D-79A1-42A1-9173-43F695ADE8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070F2-8DB5-4058-A728-37FBBF4896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7BFAF-6D78-4AA8-84A7-90906F31D9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7A442-7F12-49CF-AC20-FC233FFEE9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C17A6-7B49-4660-82A7-3F11C32083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0961E-3F89-4880-9EF0-01F790C793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1CFE-59F9-4414-90C1-55CC3AC98CB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F359-3F03-4EB6-800A-330CAD2BF3F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03F1-E5C2-4C10-ACC4-151DFA64668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6652-2A4D-4516-AD94-2B690BF8773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A4FD-E97C-4115-8661-8C6E42B63C8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81BC-E216-4E1C-8B32-1F3B33E27A7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972A-2B58-4A19-9677-6B69F3673F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5B043-BFE5-4FBC-8CBB-F16709606B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B45C-B8D0-4D08-95AC-CB8A0558B3B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266D-4293-4F38-B0D7-58835C30BBF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4798-AA45-41F4-8A30-7B9193FF5F2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1274-6635-4241-9DA2-3E417CB6C6A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BB85-A8BE-4C91-BF76-4C5ACF1F07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0E418-DC3E-4B4B-AF05-D521EFF486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D0B6E-8E38-4E0F-A80F-C24F408DCA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50E00-1431-433D-AA09-89450CB9C7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214DA-1FD9-483B-8106-46EBC62821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72832-A618-4CCB-9637-B45BA8623C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E9619-C5A6-4079-8A14-9F3C1D7723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F0DA8-BDEC-4541-8ED0-B4F15A7481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08682-096E-4B08-B32C-A541BDAD2B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8D024-951C-45CD-B049-D12EBF29D0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wmf"/><Relationship Id="rId7" Type="http://schemas.openxmlformats.org/officeDocument/2006/relationships/image" Target="../media/image12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ssessment: Audits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BDC6-FCC1-471F-B5DA-F8CAF5842A5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ther information abou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, operating proced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ff, equipment, test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vironment, handling of s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 verification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419720" y="3886200"/>
            <a:ext cx="3906720" cy="2471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277ED-E82C-46C4-BE92-0968D3E6BA7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e findings with documented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breakdown in system or departure from 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 something with audit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6C436-33DB-454E-9FB3-4D2BC53B34C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alth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914400"/>
            <a:ext cx="403848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reditatio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4343400"/>
            <a:ext cx="281952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c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Fu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301920" y="2133720"/>
            <a:ext cx="2594160" cy="3124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27672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2F2DB-7EB8-4F59-8355-FAD74968BD5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234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33520" y="3581280"/>
            <a:ext cx="5234040" cy="2438280"/>
            <a:chOff x="533520" y="3581280"/>
            <a:chExt cx="5234040" cy="243828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4114800" y="442368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1905120" y="4227120"/>
              <a:ext cx="23778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Schedule with staf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 Prepa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4648320"/>
            <a:ext cx="3200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Gather information and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38080" y="1523880"/>
            <a:ext cx="3123720" cy="2361960"/>
            <a:chOff x="838080" y="1523880"/>
            <a:chExt cx="3123720" cy="2361960"/>
          </a:xfrm>
        </p:grpSpPr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838080" y="1523880"/>
              <a:ext cx="293508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405800" y="2226240"/>
              <a:ext cx="25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29510-E793-4AD7-A42A-656D98C8E24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xternal Audit Report and Plan of 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 gap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ord results and ac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Plan correctiv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Develop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1295280"/>
            <a:ext cx="441972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 understands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14560" y="1219320"/>
            <a:ext cx="1524240" cy="761760"/>
          </a:xfrm>
          <a:custGeom>
            <a:avLst/>
            <a:gdLst>
              <a:gd name="textAreaLeft" fmla="*/ 237960 w 1524240"/>
              <a:gd name="textAreaRight" fmla="*/ 1333800 w 152424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2438280" y="5409720"/>
            <a:ext cx="6400800" cy="838440"/>
          </a:xfrm>
          <a:custGeom>
            <a:avLst/>
            <a:gdLst>
              <a:gd name="textAreaLeft" fmla="*/ 1000080 w 6400800"/>
              <a:gd name="textAreaRight" fmla="*/ 5600880 w 64008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6705000" y="3276360"/>
            <a:ext cx="3657600" cy="762120"/>
          </a:xfrm>
          <a:custGeom>
            <a:avLst/>
            <a:gdLst>
              <a:gd name="textAreaLeft" fmla="*/ 571320 w 3657600"/>
              <a:gd name="textAreaRight" fmla="*/ 3200400 w 3657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447920"/>
            <a:ext cx="2133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or’s  closing summary and repo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9E7F0-5124-40DE-8640-8616DA5BAA6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553080" y="9144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400800" y="3505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Costs 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d by ISO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on a regular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when problem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1295280"/>
            <a:ext cx="266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ok at your own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533520" y="3581280"/>
            <a:ext cx="2552760" cy="266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DB7B7-5255-4C5C-AD48-E316E2EC63E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Value of Internal 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pare for external 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 awarenes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improvemen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entive and corrective actio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continuing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eting quality standa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D916B-1AF2-4186-8DE6-3086E845A85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:  ISO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1752480"/>
            <a:ext cx="83818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have an audi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document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ditors independent of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s documented and repor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ment fo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mpt follow-up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8499A-D5D9-4649-B9F7-A2353827078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28240" y="2286000"/>
            <a:ext cx="32212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4044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40443"/>
              </a:path>
            </a:pathLst>
          </a:custGeom>
          <a:gradFill rotWithShape="0">
            <a:gsLst>
              <a:gs pos="0">
                <a:srgbClr val="b27e5e"/>
              </a:gs>
              <a:gs pos="100000">
                <a:srgbClr val="523a2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3810600" y="1371960"/>
            <a:ext cx="258984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d9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600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er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1981080"/>
            <a:ext cx="4038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 audit your own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0C042-C4C7-4129-A5D4-F5A43367BA8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605160" y="571320"/>
            <a:ext cx="8084160" cy="4643280"/>
            <a:chOff x="605160" y="571320"/>
            <a:chExt cx="8084160" cy="4643280"/>
          </a:xfrm>
        </p:grpSpPr>
        <p:sp>
          <p:nvSpPr>
            <p:cNvPr id="285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Prepar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checklis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for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Schedul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regular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Internal 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Audit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 Progra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ssign </a:t>
              </a:r>
              <a:br>
                <a:rPr sz="2500"/>
              </a:b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responsibilit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F0D04-8AFA-4224-BA32-58F384C5D37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process to prepare your laboratory staff for an ex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 and manage an in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cuss how to use results from a laboratory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ocate for the importance of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06850-35A3-46C1-948B-77D8C0A686D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2362320"/>
            <a:ext cx="30481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determines the internal auditing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495288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ssigns responsibility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for the internal audit program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   – 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Q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uality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audi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2514600"/>
            <a:ext cx="2057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upports corrective action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1943280" y="1333440"/>
            <a:ext cx="761760" cy="990720"/>
          </a:xfrm>
          <a:custGeom>
            <a:avLst/>
            <a:gdLst>
              <a:gd name="textAreaLeft" fmla="*/ 118800 w 761760"/>
              <a:gd name="textAreaRight" fmla="*/ 666720 w 7617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1942560" y="3543120"/>
            <a:ext cx="914400" cy="1143000"/>
          </a:xfrm>
          <a:custGeom>
            <a:avLst/>
            <a:gdLst>
              <a:gd name="textAreaLeft" fmla="*/ 142920 w 914400"/>
              <a:gd name="textAreaRight" fmla="*/ 800280 w 9144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6819840" y="1485720"/>
            <a:ext cx="990720" cy="1067040"/>
          </a:xfrm>
          <a:custGeom>
            <a:avLst/>
            <a:gdLst>
              <a:gd name="textAreaLeft" fmla="*/ 154800 w 990720"/>
              <a:gd name="textAreaRight" fmla="*/ 866880 w 990720"/>
              <a:gd name="textAreaTop" fmla="*/ 266760 h 1067040"/>
              <a:gd name="textAreaBottom" fmla="*/ 800280 h 106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548640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56185-5FE2-4DF9-B985-6E19B871F2C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609480"/>
            <a:ext cx="8458200" cy="1137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r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stablish and maintain an internal aud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2514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ordinate the</a:t>
            </a:r>
            <a:br>
              <a:rPr sz="24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audit proces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manage 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4076640" y="1714320"/>
            <a:ext cx="609480" cy="838080"/>
          </a:xfrm>
          <a:custGeom>
            <a:avLst/>
            <a:gdLst>
              <a:gd name="textAreaLeft" fmla="*/ 95040 w 609480"/>
              <a:gd name="textAreaRight" fmla="*/ 533520 w 60948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23623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develop 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4952880"/>
            <a:ext cx="175248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512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1374200">
            <a:off x="2133000" y="256788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81480" y="5410080"/>
            <a:ext cx="1447920" cy="4572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0800000">
            <a:off x="220968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3276720"/>
            <a:ext cx="1752480" cy="9903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327672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select &amp; train au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9818400">
            <a:off x="2133000" y="327636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9251600">
            <a:off x="5333760" y="3809880"/>
            <a:ext cx="1828800" cy="45720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512136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6D217-1DE1-41CD-A1F5-F57696FE20B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ing an Internal Audi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checkli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n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ct and analyz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clos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42758-4D5F-43B7-8F51-65599FF9174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ing an Audit Sched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regula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frequent audits for problems or areas needing impro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time audits should look at all of the quality system essenti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2670120" cy="279108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2743200" y="3628800"/>
            <a:ext cx="3228840" cy="2660760"/>
            <a:chOff x="2743200" y="3628800"/>
            <a:chExt cx="3228840" cy="2660760"/>
          </a:xfrm>
        </p:grpSpPr>
        <p:sp>
          <p:nvSpPr>
            <p:cNvPr id="339" name="_s620643"/>
            <p:cNvSpPr/>
            <p:nvPr/>
          </p:nvSpPr>
          <p:spPr>
            <a:xfrm>
              <a:off x="3344040" y="3628800"/>
              <a:ext cx="2026440" cy="1840320"/>
            </a:xfrm>
            <a:custGeom>
              <a:avLst/>
              <a:gdLst>
                <a:gd name="textAreaLeft" fmla="*/ 0 w 2026440"/>
                <a:gd name="textAreaRight" fmla="*/ 2026800 w 2026440"/>
                <a:gd name="textAreaTop" fmla="*/ 0 h 1840320"/>
                <a:gd name="textAreaBottom" fmla="*/ 1840680 h 184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620644"/>
            <p:cNvSpPr/>
            <p:nvPr/>
          </p:nvSpPr>
          <p:spPr>
            <a:xfrm rot="7200000">
              <a:off x="3714120" y="397008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620646"/>
            <p:cNvSpPr/>
            <p:nvPr/>
          </p:nvSpPr>
          <p:spPr>
            <a:xfrm rot="14400000">
              <a:off x="3160440" y="397260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620641"/>
            <p:cNvSpPr/>
            <p:nvPr/>
          </p:nvSpPr>
          <p:spPr>
            <a:xfrm>
              <a:off x="491220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620642"/>
            <p:cNvSpPr/>
            <p:nvPr/>
          </p:nvSpPr>
          <p:spPr>
            <a:xfrm>
              <a:off x="3950640" y="54781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620645"/>
            <p:cNvSpPr/>
            <p:nvPr/>
          </p:nvSpPr>
          <p:spPr>
            <a:xfrm>
              <a:off x="298908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DB6AF-E490-4A31-A6FF-79F2E9B48A5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3337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ecklis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forms for documenting corrective actions and re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019920" y="1295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9130C-C372-4F7F-B1F3-7643D5DF12C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960480" y="682200"/>
            <a:ext cx="7526880" cy="5239440"/>
            <a:chOff x="960480" y="682200"/>
            <a:chExt cx="7526880" cy="5239440"/>
          </a:xfrm>
        </p:grpSpPr>
        <p:sp>
          <p:nvSpPr>
            <p:cNvPr id="350" name="_s732185"/>
            <p:cNvSpPr/>
            <p:nvPr/>
          </p:nvSpPr>
          <p:spPr>
            <a:xfrm flipH="1" flipV="1">
              <a:off x="2869560" y="3069360"/>
              <a:ext cx="925920" cy="21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732184"/>
            <p:cNvSpPr/>
            <p:nvPr/>
          </p:nvSpPr>
          <p:spPr>
            <a:xfrm>
              <a:off x="960480" y="2143080"/>
              <a:ext cx="1954800" cy="1411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munica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effective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732183"/>
            <p:cNvSpPr/>
            <p:nvPr/>
          </p:nvSpPr>
          <p:spPr>
            <a:xfrm flipH="1">
              <a:off x="3578040" y="4074480"/>
              <a:ext cx="57132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732182"/>
            <p:cNvSpPr/>
            <p:nvPr/>
          </p:nvSpPr>
          <p:spPr>
            <a:xfrm>
              <a:off x="2023920" y="4510440"/>
              <a:ext cx="1954080" cy="1411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echnical/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Quality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xperti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732181"/>
            <p:cNvSpPr/>
            <p:nvPr/>
          </p:nvSpPr>
          <p:spPr>
            <a:xfrm>
              <a:off x="5298120" y="4074480"/>
              <a:ext cx="57456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732180"/>
            <p:cNvSpPr/>
            <p:nvPr/>
          </p:nvSpPr>
          <p:spPr>
            <a:xfrm>
              <a:off x="5469840" y="4510440"/>
              <a:ext cx="1954080" cy="1411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plomat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732179"/>
            <p:cNvSpPr/>
            <p:nvPr/>
          </p:nvSpPr>
          <p:spPr>
            <a:xfrm flipV="1">
              <a:off x="5652360" y="3067560"/>
              <a:ext cx="928440" cy="2185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732178"/>
            <p:cNvSpPr/>
            <p:nvPr/>
          </p:nvSpPr>
          <p:spPr>
            <a:xfrm>
              <a:off x="6532560" y="2143080"/>
              <a:ext cx="1954800" cy="1411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a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732177"/>
            <p:cNvSpPr/>
            <p:nvPr/>
          </p:nvSpPr>
          <p:spPr>
            <a:xfrm flipV="1">
              <a:off x="4723920" y="2093760"/>
              <a:ext cx="0" cy="7056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732176"/>
            <p:cNvSpPr/>
            <p:nvPr/>
          </p:nvSpPr>
          <p:spPr>
            <a:xfrm>
              <a:off x="3746880" y="682200"/>
              <a:ext cx="1954080" cy="1411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ttention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o deta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732175"/>
            <p:cNvSpPr/>
            <p:nvPr/>
          </p:nvSpPr>
          <p:spPr>
            <a:xfrm>
              <a:off x="3746880" y="2799360"/>
              <a:ext cx="1954080" cy="1411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Importa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Skills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for Audi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1752480" y="609480"/>
            <a:ext cx="2057400" cy="14655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7"/>
          <a:stretch/>
        </p:blipFill>
        <p:spPr>
          <a:xfrm>
            <a:off x="3962520" y="449568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7086600" y="3581280"/>
            <a:ext cx="155592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9"/>
          <a:stretch/>
        </p:blipFill>
        <p:spPr>
          <a:xfrm>
            <a:off x="6019920" y="533520"/>
            <a:ext cx="2514600" cy="15843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0"/>
          <a:stretch/>
        </p:blipFill>
        <p:spPr>
          <a:xfrm>
            <a:off x="228600" y="3276720"/>
            <a:ext cx="1698480" cy="175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6EC5A-CF3A-474F-AE4C-8B95DC6D915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5400000">
            <a:off x="1294920" y="3047760"/>
            <a:ext cx="1295280" cy="129564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s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43600" y="1371600"/>
            <a:ext cx="2895480" cy="312408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Tak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20101800">
            <a:off x="3123720" y="3885840"/>
            <a:ext cx="3619800" cy="1295280"/>
          </a:xfrm>
          <a:custGeom>
            <a:avLst/>
            <a:gdLst>
              <a:gd name="textAreaLeft" fmla="*/ 565560 w 3619800"/>
              <a:gd name="textAreaRight" fmla="*/ 3167640 w 36198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87FC1-83E7-4D2D-ABB0-170096627AB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rrective and Remedial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se actions are the steps taken to improve a process or to correct a probl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3809880"/>
            <a:ext cx="50292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is responsible?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5181480" y="2895480"/>
            <a:ext cx="3124440" cy="27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86F4C-8063-4057-B11F-EB90C1AAE09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ing corrective 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problem-solving team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stigate root cau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ppropriate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e effective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all actions and find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13386-A36B-4FEB-BAC7-96D3F2C6E66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pportunity for Improvemen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8B4E0-96EA-49C6-BD8B-E026681B1B4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Problem 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You are the quality manager in your laboratory and you want to organize an internal audit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steps will you tak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863CE-FBF9-4714-9D36-9C8A3AF1349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Continuous monitoring is the key element to success in the Quality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1D6BB-C4E9-4740-B02C-9D983310846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684000" y="776520"/>
            <a:ext cx="7933680" cy="5909040"/>
            <a:chOff x="684000" y="776520"/>
            <a:chExt cx="7933680" cy="5909040"/>
          </a:xfrm>
        </p:grpSpPr>
        <p:sp>
          <p:nvSpPr>
            <p:cNvPr id="386" name="_s595033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0 w 5317200"/>
                <a:gd name="textAreaRight" fmla="*/ 5317560 w 5317200"/>
                <a:gd name="textAreaTop" fmla="*/ 0 h 3748680"/>
                <a:gd name="textAreaBottom" fmla="*/ 374904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595034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920"/>
                <a:gd name="textAreaBottom" fmla="*/ 531828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595035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200"/>
                <a:gd name="textAreaBottom" fmla="*/ 531756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594995"/>
            <p:cNvSpPr/>
            <p:nvPr/>
          </p:nvSpPr>
          <p:spPr>
            <a:xfrm>
              <a:off x="105876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Monitor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Evalu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customer satisf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quality 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proficienc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aud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594992"/>
            <p:cNvSpPr/>
            <p:nvPr/>
          </p:nvSpPr>
          <p:spPr>
            <a:xfrm>
              <a:off x="3582000" y="473580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Corrective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Action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595007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Improvement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ntinuous Quality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BCD6F-D153-438B-A134-259065F062F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85800" y="1371600"/>
            <a:ext cx="7696080" cy="41162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 isn’t what you fin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’s what you do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about what you find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F9125-7E7B-4011-AEB0-8F9F9A252CB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essment is important in monitoring the effectiveness of the laboratory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external and internal audits yield useful inform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come of assessment is finding root causes of problems and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89097-1302-4F38-B50F-F2D333C08E1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establish an internal audit program. Conducted on a regular basis, it will provide information for continual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s become opportunities for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C06E4-73E2-4EC5-8107-04C8969760C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19920" y="159984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33520" y="838080"/>
            <a:ext cx="5181480" cy="5410080"/>
            <a:chOff x="533520" y="838080"/>
            <a:chExt cx="5181480" cy="5410080"/>
          </a:xfrm>
        </p:grpSpPr>
        <p:sp>
          <p:nvSpPr>
            <p:cNvPr id="400" name="AutoShape 4"/>
            <p:cNvSpPr/>
            <p:nvPr/>
          </p:nvSpPr>
          <p:spPr>
            <a:xfrm>
              <a:off x="533520" y="8380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"/>
            <p:cNvSpPr/>
            <p:nvPr/>
          </p:nvSpPr>
          <p:spPr>
            <a:xfrm>
              <a:off x="2778120" y="36856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0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2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3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6"/>
            <p:cNvSpPr/>
            <p:nvPr/>
          </p:nvSpPr>
          <p:spPr>
            <a:xfrm>
              <a:off x="1413000" y="30441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2"/>
            <p:cNvSpPr/>
            <p:nvPr/>
          </p:nvSpPr>
          <p:spPr>
            <a:xfrm>
              <a:off x="1401840" y="29808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 flipH="1" flipV="1">
              <a:off x="3187440" y="58449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 flipV="1">
              <a:off x="2925720" y="46735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>
              <a:off x="4724280" y="15040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3124080" y="16635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1447920" y="17128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 flipH="1">
              <a:off x="1142640" y="15519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Group 65"/>
            <p:cNvGrpSpPr/>
            <p:nvPr/>
          </p:nvGrpSpPr>
          <p:grpSpPr>
            <a:xfrm>
              <a:off x="838080" y="930600"/>
              <a:ext cx="1261800" cy="1189800"/>
              <a:chOff x="838080" y="930600"/>
              <a:chExt cx="1261800" cy="1189800"/>
            </a:xfrm>
          </p:grpSpPr>
          <p:grpSp>
            <p:nvGrpSpPr>
              <p:cNvPr id="415" name="Group 66"/>
              <p:cNvGrpSpPr/>
              <p:nvPr/>
            </p:nvGrpSpPr>
            <p:grpSpPr>
              <a:xfrm>
                <a:off x="838080" y="930600"/>
                <a:ext cx="1239120" cy="1189800"/>
                <a:chOff x="838080" y="930600"/>
                <a:chExt cx="1239120" cy="1189800"/>
              </a:xfrm>
            </p:grpSpPr>
            <p:grpSp>
              <p:nvGrpSpPr>
                <p:cNvPr id="416" name="Group 67"/>
                <p:cNvGrpSpPr/>
                <p:nvPr/>
              </p:nvGrpSpPr>
              <p:grpSpPr>
                <a:xfrm>
                  <a:off x="889560" y="930600"/>
                  <a:ext cx="1152360" cy="1189800"/>
                  <a:chOff x="889560" y="930600"/>
                  <a:chExt cx="1152360" cy="1189800"/>
                </a:xfrm>
              </p:grpSpPr>
              <p:sp>
                <p:nvSpPr>
                  <p:cNvPr id="417" name="Freeform 68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Freeform 69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9" name="Text Box 70"/>
                <p:cNvSpPr/>
                <p:nvPr/>
              </p:nvSpPr>
              <p:spPr>
                <a:xfrm>
                  <a:off x="838080" y="12049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Text Box 71"/>
              <p:cNvSpPr/>
              <p:nvPr/>
            </p:nvSpPr>
            <p:spPr>
              <a:xfrm>
                <a:off x="860760" y="13525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72"/>
            <p:cNvGrpSpPr/>
            <p:nvPr/>
          </p:nvGrpSpPr>
          <p:grpSpPr>
            <a:xfrm>
              <a:off x="2494080" y="930600"/>
              <a:ext cx="1239840" cy="1189800"/>
              <a:chOff x="2494080" y="930600"/>
              <a:chExt cx="1239840" cy="1189800"/>
            </a:xfrm>
          </p:grpSpPr>
          <p:sp>
            <p:nvSpPr>
              <p:cNvPr id="422" name="Freeform 73"/>
              <p:cNvSpPr/>
              <p:nvPr/>
            </p:nvSpPr>
            <p:spPr>
              <a:xfrm>
                <a:off x="2534760" y="9306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74"/>
              <p:cNvSpPr/>
              <p:nvPr/>
            </p:nvSpPr>
            <p:spPr>
              <a:xfrm>
                <a:off x="2494080" y="13525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75"/>
            <p:cNvGrpSpPr/>
            <p:nvPr/>
          </p:nvGrpSpPr>
          <p:grpSpPr>
            <a:xfrm>
              <a:off x="4094280" y="930600"/>
              <a:ext cx="1239840" cy="1189800"/>
              <a:chOff x="4094280" y="930600"/>
              <a:chExt cx="1239840" cy="1189800"/>
            </a:xfrm>
          </p:grpSpPr>
          <p:grpSp>
            <p:nvGrpSpPr>
              <p:cNvPr id="425" name="Group 76"/>
              <p:cNvGrpSpPr/>
              <p:nvPr/>
            </p:nvGrpSpPr>
            <p:grpSpPr>
              <a:xfrm>
                <a:off x="4139640" y="930600"/>
                <a:ext cx="1153080" cy="1189800"/>
                <a:chOff x="4139640" y="930600"/>
                <a:chExt cx="1153080" cy="1189800"/>
              </a:xfrm>
            </p:grpSpPr>
            <p:sp>
              <p:nvSpPr>
                <p:cNvPr id="426" name="Freeform 77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78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8" name="Text Box 79"/>
              <p:cNvSpPr/>
              <p:nvPr/>
            </p:nvSpPr>
            <p:spPr>
              <a:xfrm>
                <a:off x="4094280" y="13568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Line 27"/>
            <p:cNvSpPr/>
            <p:nvPr/>
          </p:nvSpPr>
          <p:spPr>
            <a:xfrm flipH="1">
              <a:off x="1218960" y="29048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838080" y="2270160"/>
              <a:ext cx="1241280" cy="1189440"/>
              <a:chOff x="838080" y="2270160"/>
              <a:chExt cx="1241280" cy="1189440"/>
            </a:xfrm>
          </p:grpSpPr>
          <p:sp>
            <p:nvSpPr>
              <p:cNvPr id="431" name="Freeform 46"/>
              <p:cNvSpPr/>
              <p:nvPr/>
            </p:nvSpPr>
            <p:spPr>
              <a:xfrm>
                <a:off x="842760" y="22701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47"/>
              <p:cNvSpPr/>
              <p:nvPr/>
            </p:nvSpPr>
            <p:spPr>
              <a:xfrm>
                <a:off x="838080" y="25567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Freeform 31"/>
            <p:cNvSpPr/>
            <p:nvPr/>
          </p:nvSpPr>
          <p:spPr>
            <a:xfrm>
              <a:off x="2543040" y="23328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3"/>
            <p:cNvSpPr/>
            <p:nvPr/>
          </p:nvSpPr>
          <p:spPr>
            <a:xfrm>
              <a:off x="2583000" y="23493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4038480" y="2288160"/>
              <a:ext cx="1336680" cy="1189440"/>
              <a:chOff x="4038480" y="2288160"/>
              <a:chExt cx="1336680" cy="1189440"/>
            </a:xfrm>
          </p:grpSpPr>
          <p:sp>
            <p:nvSpPr>
              <p:cNvPr id="436" name="Freeform 48"/>
              <p:cNvSpPr/>
              <p:nvPr/>
            </p:nvSpPr>
            <p:spPr>
              <a:xfrm>
                <a:off x="4114800" y="22881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55"/>
              <p:cNvSpPr/>
              <p:nvPr/>
            </p:nvSpPr>
            <p:spPr>
              <a:xfrm>
                <a:off x="4038480" y="25880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Line 27"/>
            <p:cNvSpPr/>
            <p:nvPr/>
          </p:nvSpPr>
          <p:spPr>
            <a:xfrm flipH="1">
              <a:off x="1142640" y="41796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838080" y="3629520"/>
              <a:ext cx="1239840" cy="1191240"/>
              <a:chOff x="838080" y="3629520"/>
              <a:chExt cx="1239840" cy="1191240"/>
            </a:xfrm>
          </p:grpSpPr>
          <p:sp>
            <p:nvSpPr>
              <p:cNvPr id="440" name="Freeform 81"/>
              <p:cNvSpPr/>
              <p:nvPr/>
            </p:nvSpPr>
            <p:spPr>
              <a:xfrm>
                <a:off x="870120" y="36295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82"/>
              <p:cNvSpPr/>
              <p:nvPr/>
            </p:nvSpPr>
            <p:spPr>
              <a:xfrm>
                <a:off x="838080" y="38613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2494080" y="3629520"/>
              <a:ext cx="1239840" cy="1191240"/>
              <a:chOff x="2494080" y="3629520"/>
              <a:chExt cx="1239840" cy="1191240"/>
            </a:xfrm>
          </p:grpSpPr>
          <p:sp>
            <p:nvSpPr>
              <p:cNvPr id="443" name="Freeform 30"/>
              <p:cNvSpPr/>
              <p:nvPr/>
            </p:nvSpPr>
            <p:spPr>
              <a:xfrm>
                <a:off x="2521080" y="36295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54"/>
              <p:cNvSpPr/>
              <p:nvPr/>
            </p:nvSpPr>
            <p:spPr>
              <a:xfrm>
                <a:off x="2494080" y="38797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Freeform 50"/>
            <p:cNvSpPr/>
            <p:nvPr/>
          </p:nvSpPr>
          <p:spPr>
            <a:xfrm>
              <a:off x="4114800" y="36226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51"/>
            <p:cNvSpPr/>
            <p:nvPr/>
          </p:nvSpPr>
          <p:spPr>
            <a:xfrm>
              <a:off x="4094280" y="37022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27"/>
            <p:cNvSpPr/>
            <p:nvPr/>
          </p:nvSpPr>
          <p:spPr>
            <a:xfrm flipH="1">
              <a:off x="1218960" y="55306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762120" y="4978440"/>
              <a:ext cx="1420560" cy="1189440"/>
              <a:chOff x="762120" y="4978440"/>
              <a:chExt cx="1420560" cy="1189440"/>
            </a:xfrm>
          </p:grpSpPr>
          <p:sp>
            <p:nvSpPr>
              <p:cNvPr id="449" name="Freeform 57"/>
              <p:cNvSpPr/>
              <p:nvPr/>
            </p:nvSpPr>
            <p:spPr>
              <a:xfrm>
                <a:off x="911160" y="49784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58"/>
              <p:cNvSpPr/>
              <p:nvPr/>
            </p:nvSpPr>
            <p:spPr>
              <a:xfrm>
                <a:off x="762120" y="52135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2494080" y="4910400"/>
              <a:ext cx="1239840" cy="1189800"/>
              <a:chOff x="2494080" y="4910400"/>
              <a:chExt cx="1239840" cy="1189800"/>
            </a:xfrm>
          </p:grpSpPr>
          <p:sp>
            <p:nvSpPr>
              <p:cNvPr id="452" name="Freeform 34"/>
              <p:cNvSpPr/>
              <p:nvPr/>
            </p:nvSpPr>
            <p:spPr>
              <a:xfrm>
                <a:off x="2543040" y="49104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61"/>
              <p:cNvSpPr/>
              <p:nvPr/>
            </p:nvSpPr>
            <p:spPr>
              <a:xfrm>
                <a:off x="2494080" y="52135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114800" y="4978440"/>
              <a:ext cx="1239840" cy="1189440"/>
              <a:chOff x="4114800" y="4978440"/>
              <a:chExt cx="1239840" cy="1189440"/>
            </a:xfrm>
          </p:grpSpPr>
          <p:sp>
            <p:nvSpPr>
              <p:cNvPr id="455" name="Freeform 63"/>
              <p:cNvSpPr/>
              <p:nvPr/>
            </p:nvSpPr>
            <p:spPr>
              <a:xfrm>
                <a:off x="4133880" y="49784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64"/>
              <p:cNvSpPr/>
              <p:nvPr/>
            </p:nvSpPr>
            <p:spPr>
              <a:xfrm>
                <a:off x="4114800" y="52135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64A0B-6683-480D-A1B7-C78191532D4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22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37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38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39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44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74"/>
              <p:cNvSpPr/>
              <p:nvPr/>
            </p:nvSpPr>
            <p:spPr>
              <a:xfrm>
                <a:off x="409428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47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48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53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58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62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65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71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74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77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B03B3-9B76-41D5-AA08-F0BE8835F0A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sessment—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197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atic examination of some part (or all) of the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ormance with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2889000" cy="3019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DC509-41AE-4DEC-8655-D1279E6DF32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ubOvalCallout"/>
          <p:cNvSpPr/>
          <p:nvPr/>
        </p:nvSpPr>
        <p:spPr>
          <a:xfrm>
            <a:off x="228600" y="1143000"/>
            <a:ext cx="7086600" cy="5410080"/>
          </a:xfrm>
          <a:custGeom>
            <a:avLst/>
            <a:gdLst>
              <a:gd name="textAreaLeft" fmla="*/ 1037520 w 7086600"/>
              <a:gd name="textAreaRight" fmla="*/ 6049080 w 7086600"/>
              <a:gd name="textAreaTop" fmla="*/ 594360 h 5410080"/>
              <a:gd name="textAreaBottom" fmla="*/ 3465360 h 541008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an assessment?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Someone is asking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219320" y="2209680"/>
            <a:ext cx="51814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at is being done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How does this comply with written polici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d proced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4D287-F821-40D2-966F-592EFA24B46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y perform an assessment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arn “where we are” in terms of quality m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asure ga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 information for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ning and implem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inuous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553080" y="2057400"/>
            <a:ext cx="1905120" cy="17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C3882-E186-49FE-8B9B-4A3817E6FAB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5880" y="2438280"/>
            <a:ext cx="274320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2971800"/>
            <a:ext cx="266688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utside group or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Ex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1523880" y="327636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3572000">
            <a:off x="3352680" y="487620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6AA68-93C5-40A1-BE65-2033B9347E6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873C2-ABA0-4791-9F18-9C58A8E0816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6:58Z</dcterms:modified>
  <cp:revision>125</cp:revision>
  <dc:subject/>
  <dc:title>Slide 1</dc:title>
</cp:coreProperties>
</file>